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20F-99C9-43FF-8FC5-EBF2E882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80E-21DA-4578-B33C-CCA59BC3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022-37A1-45E8-BB08-A36A6FDE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D9B-79B5-49CD-8D22-12D6305C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017-18C3-4451-A91E-B73F661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F53-8CC8-4BD9-807B-F9247884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A39-8BEC-4ABB-B4FC-60ADCBED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7F2-A6F5-4F0C-A453-CE9DCC2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A1C-524B-410E-89E4-5F333CB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BBA-18C8-4236-B55A-4820C81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0DC-8D15-45CE-A062-E370616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80F-DBD5-40EE-B99B-B1C7DA7C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C848-7DE2-4F5B-B93E-40B58A0D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Trigon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special Triangles and complete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116000" y="1773360"/>
            <a:ext cx="1224000" cy="1224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2072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5640" y="2854440"/>
            <a:ext cx="144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724000" y="1628640"/>
            <a:ext cx="1727640" cy="1368360"/>
            <a:chOff x="5724000" y="1628640"/>
            <a:chExt cx="1727640" cy="1368360"/>
          </a:xfrm>
        </p:grpSpPr>
        <p:sp>
          <p:nvSpPr>
            <p:cNvPr id="366" name=""/>
            <p:cNvSpPr/>
            <p:nvPr/>
          </p:nvSpPr>
          <p:spPr>
            <a:xfrm>
              <a:off x="6588000" y="1628640"/>
              <a:ext cx="863640" cy="1368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723640" y="1628640"/>
              <a:ext cx="863640" cy="1368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588000" y="2854440"/>
            <a:ext cx="14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70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1440" y="198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564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15280" y="2054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22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58560" y="3789000"/>
            <a:ext cx="3457800" cy="2664360"/>
            <a:chOff x="1258560" y="3789000"/>
            <a:chExt cx="3457800" cy="2664360"/>
          </a:xfrm>
        </p:grpSpPr>
        <p:sp>
          <p:nvSpPr>
            <p:cNvPr id="375" name=""/>
            <p:cNvSpPr/>
            <p:nvPr/>
          </p:nvSpPr>
          <p:spPr>
            <a:xfrm>
              <a:off x="2268360" y="42926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68360" y="50133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68360" y="57326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429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59280" y="5013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59280" y="573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51280" y="429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1280" y="5013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51280" y="573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11280" y="386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03640" y="386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95640" y="386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405080" y="4394160"/>
                  <a:ext cx="863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1374840" y="5113440"/>
                  <a:ext cx="9205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1390680" y="5834160"/>
                  <a:ext cx="8920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x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 flipH="1">
              <a:off x="1332000" y="4292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268360" y="378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19280" y="38354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332000" y="50133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258560" y="5734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258560" y="6453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59280" y="378900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51280" y="378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643280" y="37893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484360" y="4292640"/>
                <a:ext cx="290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40000" y="4268880"/>
                <a:ext cx="507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003560" y="4233960"/>
                <a:ext cx="48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340000" y="4970520"/>
                <a:ext cx="48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271680" y="4981680"/>
                <a:ext cx="508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067280" y="5013360"/>
                <a:ext cx="290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84280" y="5661000"/>
                <a:ext cx="484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405240" y="5921280"/>
                <a:ext cx="1699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994200" y="5861160"/>
                <a:ext cx="434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4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6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following exac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651280" y="549000"/>
            <a:ext cx="3457800" cy="2669040"/>
            <a:chOff x="5651280" y="549000"/>
            <a:chExt cx="3457800" cy="2669040"/>
          </a:xfrm>
        </p:grpSpPr>
        <p:grpSp>
          <p:nvGrpSpPr>
            <p:cNvPr id="410" name=""/>
            <p:cNvGrpSpPr/>
            <p:nvPr/>
          </p:nvGrpSpPr>
          <p:grpSpPr>
            <a:xfrm>
              <a:off x="5651280" y="549000"/>
              <a:ext cx="3457800" cy="2664360"/>
              <a:chOff x="5651280" y="549000"/>
              <a:chExt cx="3457800" cy="2664360"/>
            </a:xfrm>
          </p:grpSpPr>
          <p:sp>
            <p:nvSpPr>
              <p:cNvPr id="411" name=""/>
              <p:cNvSpPr/>
              <p:nvPr/>
            </p:nvSpPr>
            <p:spPr>
              <a:xfrm>
                <a:off x="6661080" y="1052640"/>
                <a:ext cx="79236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61080" y="1773360"/>
                <a:ext cx="79236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61080" y="2492640"/>
                <a:ext cx="79236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52000" y="105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52000" y="177336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52000" y="249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244000" y="105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244000" y="177336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44000" y="249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04000" y="620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596360" y="620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388360" y="620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5797800" y="1154160"/>
                    <a:ext cx="86328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4" name=""/>
                  <p:cNvSpPr txBox="1"/>
                  <p:nvPr/>
                </p:nvSpPr>
                <p:spPr>
                  <a:xfrm>
                    <a:off x="5767560" y="1873440"/>
                    <a:ext cx="92052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783400" y="2594160"/>
                    <a:ext cx="89208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6" name=""/>
              <p:cNvSpPr/>
              <p:nvPr/>
            </p:nvSpPr>
            <p:spPr>
              <a:xfrm flipH="1">
                <a:off x="5724720" y="1052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6661080" y="549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12000" y="5954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5724720" y="17733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651280" y="2494080"/>
                <a:ext cx="11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5651280" y="321336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452000" y="549000"/>
                <a:ext cx="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8244000" y="549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9036000" y="54936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877080" y="1052640"/>
                  <a:ext cx="29052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7632720" y="1028880"/>
                  <a:ext cx="5079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8396280" y="993960"/>
                  <a:ext cx="48420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6732720" y="1730520"/>
                  <a:ext cx="48420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7664400" y="1741680"/>
                  <a:ext cx="5083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8460000" y="1773360"/>
                  <a:ext cx="29052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777000" y="2421000"/>
                  <a:ext cx="48420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7797960" y="2681280"/>
                  <a:ext cx="1699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8386920" y="2621160"/>
                  <a:ext cx="4348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4" name=""/>
          <p:cNvSpPr/>
          <p:nvPr/>
        </p:nvSpPr>
        <p:spPr>
          <a:xfrm>
            <a:off x="1044720" y="19098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1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4000" y="1909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 31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1280" y="4357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3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9236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 69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42160" y="43578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-9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4145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 (180 – 30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95280" y="765000"/>
            <a:ext cx="1079640" cy="1008000"/>
            <a:chOff x="395280" y="765000"/>
            <a:chExt cx="1079640" cy="1008000"/>
          </a:xfrm>
        </p:grpSpPr>
        <p:sp>
          <p:nvSpPr>
            <p:cNvPr id="451" name=""/>
            <p:cNvSpPr/>
            <p:nvPr/>
          </p:nvSpPr>
          <p:spPr>
            <a:xfrm>
              <a:off x="898560" y="765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5280" y="1269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43280" y="76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5280" y="76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5280" y="1334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43280" y="1334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971640" y="29113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 Sin 3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332000" y="33498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90920" y="24084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n (360 – 45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90920" y="29052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Tan 45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78200" y="33433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49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s (360 – 60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54388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 Cos 6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71640" y="58770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19640" y="49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n 33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19640" y="57992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tan 3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64000" y="616572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19640" y="53672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n (360 – 30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38920" y="49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 27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5373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524720" y="4581000"/>
            <a:ext cx="1224000" cy="995760"/>
            <a:chOff x="7524720" y="4581000"/>
            <a:chExt cx="1224000" cy="995760"/>
          </a:xfrm>
        </p:grpSpPr>
        <p:sp>
          <p:nvSpPr>
            <p:cNvPr id="472" name=""/>
            <p:cNvSpPr/>
            <p:nvPr/>
          </p:nvSpPr>
          <p:spPr>
            <a:xfrm>
              <a:off x="7596360" y="4581360"/>
              <a:ext cx="936360" cy="995400"/>
            </a:xfrm>
            <a:custGeom>
              <a:avLst/>
              <a:gdLst/>
              <a:ahLst/>
              <a:rect l="l" t="t" r="r" b="b"/>
              <a:pathLst>
                <a:path w="590" h="627">
                  <a:moveTo>
                    <a:pt x="0" y="317"/>
                  </a:moveTo>
                  <a:cubicBezTo>
                    <a:pt x="57" y="158"/>
                    <a:pt x="114" y="0"/>
                    <a:pt x="182" y="45"/>
                  </a:cubicBezTo>
                  <a:cubicBezTo>
                    <a:pt x="250" y="90"/>
                    <a:pt x="340" y="551"/>
                    <a:pt x="408" y="589"/>
                  </a:cubicBezTo>
                  <a:cubicBezTo>
                    <a:pt x="476" y="627"/>
                    <a:pt x="533" y="449"/>
                    <a:pt x="590" y="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24720" y="5084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596360" y="4581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44000" y="504684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9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t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as and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of the following by facto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7492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x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92720" y="907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x – 8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76360" y="3716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03280" y="1459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(x – 5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98560" y="1916280"/>
            <a:ext cx="2736720" cy="794520"/>
            <a:chOff x="898560" y="1916280"/>
            <a:chExt cx="2736720" cy="794520"/>
          </a:xfrm>
        </p:grpSpPr>
        <p:sp>
          <p:nvSpPr>
            <p:cNvPr id="484" name=""/>
            <p:cNvSpPr/>
            <p:nvPr/>
          </p:nvSpPr>
          <p:spPr>
            <a:xfrm>
              <a:off x="898560" y="2251080"/>
              <a:ext cx="27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= 0   or x – 5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258560" y="1916280"/>
              <a:ext cx="288720" cy="43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23640" y="1916280"/>
              <a:ext cx="431640" cy="43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116000" y="2827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0 and x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48360" y="1459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x – 4 )(x + 2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932360" y="1844640"/>
            <a:ext cx="3600360" cy="794520"/>
            <a:chOff x="4932360" y="1844640"/>
            <a:chExt cx="3600360" cy="794520"/>
          </a:xfrm>
        </p:grpSpPr>
        <p:sp>
          <p:nvSpPr>
            <p:cNvPr id="490" name=""/>
            <p:cNvSpPr/>
            <p:nvPr/>
          </p:nvSpPr>
          <p:spPr>
            <a:xfrm>
              <a:off x="4932360" y="21794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– 4 = 0  or x + 2 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508360" y="1844640"/>
              <a:ext cx="1440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59280" y="1844640"/>
              <a:ext cx="28872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292720" y="2827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4 and x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76360" y="41940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6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87280" y="46990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x – 8 )(x + 8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971640" y="5156280"/>
            <a:ext cx="3600360" cy="794520"/>
            <a:chOff x="971640" y="5156280"/>
            <a:chExt cx="3600360" cy="794520"/>
          </a:xfrm>
        </p:grpSpPr>
        <p:sp>
          <p:nvSpPr>
            <p:cNvPr id="497" name=""/>
            <p:cNvSpPr/>
            <p:nvPr/>
          </p:nvSpPr>
          <p:spPr>
            <a:xfrm>
              <a:off x="971640" y="5491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– 8 = 0  or x + 8 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1547640" y="5156280"/>
              <a:ext cx="1440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98560" y="5156280"/>
              <a:ext cx="28872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47492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8 and x =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92720" y="364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6 = 15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48360" y="465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x – 16 )(x + 1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075280" y="5038560"/>
            <a:ext cx="3600360" cy="794520"/>
            <a:chOff x="5075280" y="5038560"/>
            <a:chExt cx="3600360" cy="794520"/>
          </a:xfrm>
        </p:grpSpPr>
        <p:sp>
          <p:nvSpPr>
            <p:cNvPr id="504" name=""/>
            <p:cNvSpPr/>
            <p:nvPr/>
          </p:nvSpPr>
          <p:spPr>
            <a:xfrm>
              <a:off x="5075280" y="5373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– 16 = 0  or x + 1 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651280" y="5038560"/>
              <a:ext cx="1440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02200" y="5038560"/>
              <a:ext cx="28872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5292720" y="602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16 and x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92720" y="41241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5x – 16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9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1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0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4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4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68360" y="16034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1x + 1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55640" y="3403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3)(x + 4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79280" y="2252520"/>
            <a:ext cx="1008000" cy="863640"/>
            <a:chOff x="179280" y="2252520"/>
            <a:chExt cx="1008000" cy="863640"/>
          </a:xfrm>
        </p:grpSpPr>
        <p:sp>
          <p:nvSpPr>
            <p:cNvPr id="512" name=""/>
            <p:cNvSpPr/>
            <p:nvPr/>
          </p:nvSpPr>
          <p:spPr>
            <a:xfrm>
              <a:off x="682560" y="2252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9280" y="2684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52360" y="2325600"/>
            <a:ext cx="792000" cy="720720"/>
            <a:chOff x="252360" y="2325600"/>
            <a:chExt cx="792000" cy="720720"/>
          </a:xfrm>
        </p:grpSpPr>
        <p:sp>
          <p:nvSpPr>
            <p:cNvPr id="515" name=""/>
            <p:cNvSpPr/>
            <p:nvPr/>
          </p:nvSpPr>
          <p:spPr>
            <a:xfrm>
              <a:off x="25236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236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84360" y="2325600"/>
            <a:ext cx="792000" cy="720720"/>
            <a:chOff x="684360" y="2325600"/>
            <a:chExt cx="792000" cy="720720"/>
          </a:xfrm>
        </p:grpSpPr>
        <p:sp>
          <p:nvSpPr>
            <p:cNvPr id="518" name=""/>
            <p:cNvSpPr/>
            <p:nvPr/>
          </p:nvSpPr>
          <p:spPr>
            <a:xfrm>
              <a:off x="68436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36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403280" y="2252520"/>
            <a:ext cx="1008000" cy="863640"/>
            <a:chOff x="1403280" y="2252520"/>
            <a:chExt cx="1008000" cy="863640"/>
          </a:xfrm>
        </p:grpSpPr>
        <p:sp>
          <p:nvSpPr>
            <p:cNvPr id="521" name=""/>
            <p:cNvSpPr/>
            <p:nvPr/>
          </p:nvSpPr>
          <p:spPr>
            <a:xfrm>
              <a:off x="1906560" y="2252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03280" y="2684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476360" y="2325600"/>
            <a:ext cx="792000" cy="720720"/>
            <a:chOff x="1476360" y="2325600"/>
            <a:chExt cx="792000" cy="720720"/>
          </a:xfrm>
        </p:grpSpPr>
        <p:sp>
          <p:nvSpPr>
            <p:cNvPr id="524" name=""/>
            <p:cNvSpPr/>
            <p:nvPr/>
          </p:nvSpPr>
          <p:spPr>
            <a:xfrm>
              <a:off x="147636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7636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908000" y="2325600"/>
            <a:ext cx="792000" cy="720720"/>
            <a:chOff x="1908000" y="2325600"/>
            <a:chExt cx="792000" cy="720720"/>
          </a:xfrm>
        </p:grpSpPr>
        <p:sp>
          <p:nvSpPr>
            <p:cNvPr id="527" name=""/>
            <p:cNvSpPr/>
            <p:nvPr/>
          </p:nvSpPr>
          <p:spPr>
            <a:xfrm>
              <a:off x="190800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0800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556000" y="2252520"/>
            <a:ext cx="1008000" cy="863640"/>
            <a:chOff x="2556000" y="2252520"/>
            <a:chExt cx="1008000" cy="863640"/>
          </a:xfrm>
        </p:grpSpPr>
        <p:sp>
          <p:nvSpPr>
            <p:cNvPr id="530" name=""/>
            <p:cNvSpPr/>
            <p:nvPr/>
          </p:nvSpPr>
          <p:spPr>
            <a:xfrm>
              <a:off x="3059280" y="2252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56000" y="2684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629080" y="2325600"/>
            <a:ext cx="792000" cy="720720"/>
            <a:chOff x="2629080" y="2325600"/>
            <a:chExt cx="792000" cy="720720"/>
          </a:xfrm>
        </p:grpSpPr>
        <p:sp>
          <p:nvSpPr>
            <p:cNvPr id="533" name=""/>
            <p:cNvSpPr/>
            <p:nvPr/>
          </p:nvSpPr>
          <p:spPr>
            <a:xfrm>
              <a:off x="262908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2908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987640" y="2325600"/>
            <a:ext cx="792000" cy="720720"/>
            <a:chOff x="2987640" y="2325600"/>
            <a:chExt cx="792000" cy="720720"/>
          </a:xfrm>
        </p:grpSpPr>
        <p:sp>
          <p:nvSpPr>
            <p:cNvPr id="536" name=""/>
            <p:cNvSpPr/>
            <p:nvPr/>
          </p:nvSpPr>
          <p:spPr>
            <a:xfrm>
              <a:off x="298764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8764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of the following by facto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1280" y="1557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3x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80000" y="3979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(x + 5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03640" y="2828880"/>
            <a:ext cx="1008000" cy="863640"/>
            <a:chOff x="5003640" y="2828880"/>
            <a:chExt cx="1008000" cy="863640"/>
          </a:xfrm>
        </p:grpSpPr>
        <p:sp>
          <p:nvSpPr>
            <p:cNvPr id="542" name=""/>
            <p:cNvSpPr/>
            <p:nvPr/>
          </p:nvSpPr>
          <p:spPr>
            <a:xfrm>
              <a:off x="5506920" y="2828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03640" y="3260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076720" y="2901960"/>
            <a:ext cx="792000" cy="720720"/>
            <a:chOff x="5076720" y="2901960"/>
            <a:chExt cx="792000" cy="720720"/>
          </a:xfrm>
        </p:grpSpPr>
        <p:sp>
          <p:nvSpPr>
            <p:cNvPr id="545" name=""/>
            <p:cNvSpPr/>
            <p:nvPr/>
          </p:nvSpPr>
          <p:spPr>
            <a:xfrm>
              <a:off x="5076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76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508720" y="2901960"/>
            <a:ext cx="792000" cy="720720"/>
            <a:chOff x="5508720" y="2901960"/>
            <a:chExt cx="792000" cy="720720"/>
          </a:xfrm>
        </p:grpSpPr>
        <p:sp>
          <p:nvSpPr>
            <p:cNvPr id="548" name=""/>
            <p:cNvSpPr/>
            <p:nvPr/>
          </p:nvSpPr>
          <p:spPr>
            <a:xfrm>
              <a:off x="5508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08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227640" y="2828880"/>
            <a:ext cx="1008000" cy="863640"/>
            <a:chOff x="6227640" y="2828880"/>
            <a:chExt cx="1008000" cy="863640"/>
          </a:xfrm>
        </p:grpSpPr>
        <p:sp>
          <p:nvSpPr>
            <p:cNvPr id="551" name=""/>
            <p:cNvSpPr/>
            <p:nvPr/>
          </p:nvSpPr>
          <p:spPr>
            <a:xfrm>
              <a:off x="6730920" y="2828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27640" y="3260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300720" y="2901960"/>
            <a:ext cx="792000" cy="720720"/>
            <a:chOff x="6300720" y="2901960"/>
            <a:chExt cx="792000" cy="720720"/>
          </a:xfrm>
        </p:grpSpPr>
        <p:sp>
          <p:nvSpPr>
            <p:cNvPr id="554" name=""/>
            <p:cNvSpPr/>
            <p:nvPr/>
          </p:nvSpPr>
          <p:spPr>
            <a:xfrm>
              <a:off x="6300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00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732720" y="2901960"/>
            <a:ext cx="792000" cy="720720"/>
            <a:chOff x="6732720" y="2901960"/>
            <a:chExt cx="792000" cy="720720"/>
          </a:xfrm>
        </p:grpSpPr>
        <p:sp>
          <p:nvSpPr>
            <p:cNvPr id="557" name=""/>
            <p:cNvSpPr/>
            <p:nvPr/>
          </p:nvSpPr>
          <p:spPr>
            <a:xfrm>
              <a:off x="6732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32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380360" y="2828880"/>
            <a:ext cx="1008000" cy="863640"/>
            <a:chOff x="7380360" y="2828880"/>
            <a:chExt cx="1008000" cy="863640"/>
          </a:xfrm>
        </p:grpSpPr>
        <p:sp>
          <p:nvSpPr>
            <p:cNvPr id="560" name=""/>
            <p:cNvSpPr/>
            <p:nvPr/>
          </p:nvSpPr>
          <p:spPr>
            <a:xfrm>
              <a:off x="7883640" y="2828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80360" y="3260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7453440" y="2901960"/>
            <a:ext cx="792000" cy="720720"/>
            <a:chOff x="7453440" y="2901960"/>
            <a:chExt cx="792000" cy="720720"/>
          </a:xfrm>
        </p:grpSpPr>
        <p:sp>
          <p:nvSpPr>
            <p:cNvPr id="563" name=""/>
            <p:cNvSpPr/>
            <p:nvPr/>
          </p:nvSpPr>
          <p:spPr>
            <a:xfrm>
              <a:off x="745344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5344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7812000" y="2901960"/>
            <a:ext cx="792000" cy="720720"/>
            <a:chOff x="7812000" y="2901960"/>
            <a:chExt cx="792000" cy="720720"/>
          </a:xfrm>
        </p:grpSpPr>
        <p:sp>
          <p:nvSpPr>
            <p:cNvPr id="566" name=""/>
            <p:cNvSpPr/>
            <p:nvPr/>
          </p:nvSpPr>
          <p:spPr>
            <a:xfrm>
              <a:off x="781200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1200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219640" y="217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13x – 1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95280" y="3860640"/>
            <a:ext cx="3600360" cy="748800"/>
            <a:chOff x="395280" y="3860640"/>
            <a:chExt cx="3600360" cy="748800"/>
          </a:xfrm>
        </p:grpSpPr>
        <p:sp>
          <p:nvSpPr>
            <p:cNvPr id="570" name=""/>
            <p:cNvSpPr/>
            <p:nvPr/>
          </p:nvSpPr>
          <p:spPr>
            <a:xfrm>
              <a:off x="395280" y="414972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Arial"/>
                </a:rPr>
                <a:t>2x + 3 = 0 or  x + 4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971280" y="3860640"/>
              <a:ext cx="4316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40000" y="3860640"/>
              <a:ext cx="28728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11280" y="48434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 = -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 and x =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219640" y="4581360"/>
            <a:ext cx="3600360" cy="748800"/>
            <a:chOff x="5219640" y="4581360"/>
            <a:chExt cx="3600360" cy="748800"/>
          </a:xfrm>
        </p:grpSpPr>
        <p:sp>
          <p:nvSpPr>
            <p:cNvPr id="575" name=""/>
            <p:cNvSpPr/>
            <p:nvPr/>
          </p:nvSpPr>
          <p:spPr>
            <a:xfrm>
              <a:off x="5219640" y="48704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Arial"/>
                </a:rPr>
                <a:t>3x </a:t>
              </a:r>
              <a:r>
                <a:rPr b="0" lang="en-GB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333399"/>
                  </a:solidFill>
                  <a:latin typeface="Arial"/>
                </a:rPr>
                <a:t> 2 = 0 or  x + 5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795640" y="4581360"/>
              <a:ext cx="4316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64360" y="4581360"/>
              <a:ext cx="28728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435640" y="549288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 = 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 and x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correct to 1 d.p.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7528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6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4000" y="1438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, b= -3, c =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9640" y="208584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8360" y="3014640"/>
                <a:ext cx="33876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322280" y="4030560"/>
                <a:ext cx="16653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84360" y="4917960"/>
                <a:ext cx="31320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82692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1128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-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75280" y="1316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56040" y="20383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, b= -2, c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072040" y="268596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240160" y="3614760"/>
                <a:ext cx="2907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5759280" y="4702320"/>
                <a:ext cx="1692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910040" y="5805360"/>
                <a:ext cx="3694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o real solution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1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4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5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6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correct to 1 d.p.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36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2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7528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9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5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4000" y="1438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3, b= 2, c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39640" y="208584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640" y="3029040"/>
                <a:ext cx="31892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181160" y="4030560"/>
                <a:ext cx="1947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03200" y="4917960"/>
                <a:ext cx="36957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82692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1128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-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56040" y="1459080"/>
            <a:ext cx="33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-2, b= -5, 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5072040" y="198900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000760" y="2917800"/>
                <a:ext cx="3386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689440" y="4005360"/>
                <a:ext cx="18338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5234040" y="4917960"/>
                <a:ext cx="3187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29272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-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7708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3" dur="indefinite" restart="never" nodeType="tmRoot">
          <p:childTnLst>
            <p:seq>
              <p:cTn id="2264" dur="indefinite" nodeType="mainSeq">
                <p:childTnLst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1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9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rea of the Rectangle determine x and the dimensions of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075280" y="1773360"/>
            <a:ext cx="3313080" cy="1406880"/>
            <a:chOff x="5075280" y="1773360"/>
            <a:chExt cx="3313080" cy="1406880"/>
          </a:xfrm>
        </p:grpSpPr>
        <p:sp>
          <p:nvSpPr>
            <p:cNvPr id="614" name=""/>
            <p:cNvSpPr/>
            <p:nvPr/>
          </p:nvSpPr>
          <p:spPr>
            <a:xfrm>
              <a:off x="5075280" y="1773360"/>
              <a:ext cx="2160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22920" y="278136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 +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37440" y="206064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– 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92720" y="206064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ea = 52 c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1128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x + 1)(x – 2)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2087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4x + x – 2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1280" y="2592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x – 2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1280" y="30495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x – 5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395280" y="3887640"/>
            <a:ext cx="1008000" cy="863640"/>
            <a:chOff x="395280" y="3887640"/>
            <a:chExt cx="1008000" cy="863640"/>
          </a:xfrm>
        </p:grpSpPr>
        <p:sp>
          <p:nvSpPr>
            <p:cNvPr id="623" name=""/>
            <p:cNvSpPr/>
            <p:nvPr/>
          </p:nvSpPr>
          <p:spPr>
            <a:xfrm>
              <a:off x="898560" y="3887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5280" y="4319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68360" y="3960720"/>
            <a:ext cx="792000" cy="720720"/>
            <a:chOff x="468360" y="3960720"/>
            <a:chExt cx="792000" cy="720720"/>
          </a:xfrm>
        </p:grpSpPr>
        <p:sp>
          <p:nvSpPr>
            <p:cNvPr id="626" name=""/>
            <p:cNvSpPr/>
            <p:nvPr/>
          </p:nvSpPr>
          <p:spPr>
            <a:xfrm>
              <a:off x="46836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836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900000" y="3960720"/>
            <a:ext cx="792000" cy="720720"/>
            <a:chOff x="900000" y="3960720"/>
            <a:chExt cx="792000" cy="720720"/>
          </a:xfrm>
        </p:grpSpPr>
        <p:sp>
          <p:nvSpPr>
            <p:cNvPr id="629" name=""/>
            <p:cNvSpPr/>
            <p:nvPr/>
          </p:nvSpPr>
          <p:spPr>
            <a:xfrm>
              <a:off x="90000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0000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19280" y="3887640"/>
            <a:ext cx="1008000" cy="863640"/>
            <a:chOff x="1619280" y="3887640"/>
            <a:chExt cx="1008000" cy="863640"/>
          </a:xfrm>
        </p:grpSpPr>
        <p:sp>
          <p:nvSpPr>
            <p:cNvPr id="632" name=""/>
            <p:cNvSpPr/>
            <p:nvPr/>
          </p:nvSpPr>
          <p:spPr>
            <a:xfrm>
              <a:off x="2122560" y="3887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319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692360" y="3960720"/>
            <a:ext cx="792000" cy="720720"/>
            <a:chOff x="1692360" y="3960720"/>
            <a:chExt cx="792000" cy="720720"/>
          </a:xfrm>
        </p:grpSpPr>
        <p:sp>
          <p:nvSpPr>
            <p:cNvPr id="635" name=""/>
            <p:cNvSpPr/>
            <p:nvPr/>
          </p:nvSpPr>
          <p:spPr>
            <a:xfrm>
              <a:off x="169236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9236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124000" y="3960720"/>
            <a:ext cx="792000" cy="720720"/>
            <a:chOff x="2124000" y="3960720"/>
            <a:chExt cx="792000" cy="720720"/>
          </a:xfrm>
        </p:grpSpPr>
        <p:sp>
          <p:nvSpPr>
            <p:cNvPr id="638" name=""/>
            <p:cNvSpPr/>
            <p:nvPr/>
          </p:nvSpPr>
          <p:spPr>
            <a:xfrm>
              <a:off x="212400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2400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11280" y="487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x + 9)(x – 6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5472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 + 9 = 0  or  x –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5640" y="5975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-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r x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350028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6 as you can’t have a negativ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19640" y="46530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mensions are 13 cm by 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7" dur="indefinite" restart="never" nodeType="tmRoot">
          <p:childTnLst>
            <p:seq>
              <p:cTn id="2358" dur="indefinite" nodeType="mainSeq">
                <p:childTnLst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4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5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8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5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ing Parabolas y = 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948360" y="76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0692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15240" y="2997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880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531280" y="2421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" y="1700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Y-intercept when 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6588000" y="2467080"/>
            <a:ext cx="1368360" cy="71280"/>
            <a:chOff x="6588000" y="2467080"/>
            <a:chExt cx="1368360" cy="71280"/>
          </a:xfrm>
        </p:grpSpPr>
        <p:sp>
          <p:nvSpPr>
            <p:cNvPr id="653" name=""/>
            <p:cNvSpPr/>
            <p:nvPr/>
          </p:nvSpPr>
          <p:spPr>
            <a:xfrm>
              <a:off x="6588000" y="24670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84720" y="246708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95280" y="21258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X-intercept (roots) when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257960" y="83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5280" y="2492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xis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97480" y="1844640"/>
            <a:ext cx="1946520" cy="1368360"/>
          </a:xfrm>
          <a:custGeom>
            <a:avLst/>
            <a:gdLst/>
            <a:ahLst/>
            <a:rect l="l" t="t" r="r" b="b"/>
            <a:pathLst>
              <a:path w="1452" h="499">
                <a:moveTo>
                  <a:pt x="0" y="0"/>
                </a:moveTo>
                <a:cubicBezTo>
                  <a:pt x="242" y="249"/>
                  <a:pt x="484" y="499"/>
                  <a:pt x="726" y="499"/>
                </a:cubicBezTo>
                <a:cubicBezTo>
                  <a:pt x="968" y="499"/>
                  <a:pt x="1210" y="249"/>
                  <a:pt x="14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223040" y="31798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5280" y="29178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  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95280" y="1196640"/>
            <a:ext cx="4248000" cy="503640"/>
            <a:chOff x="395280" y="1196640"/>
            <a:chExt cx="4248000" cy="503640"/>
          </a:xfrm>
        </p:grpSpPr>
        <p:sp>
          <p:nvSpPr>
            <p:cNvPr id="662" name=""/>
            <p:cNvSpPr/>
            <p:nvPr/>
          </p:nvSpPr>
          <p:spPr>
            <a:xfrm>
              <a:off x="395280" y="1197000"/>
              <a:ext cx="42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 Shape +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-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4360" y="1268280"/>
              <a:ext cx="432000" cy="43200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852720" y="1196280"/>
              <a:ext cx="43200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0" dur="indefinite" restart="never" nodeType="tmRoot">
          <p:childTnLst>
            <p:seq>
              <p:cTn id="2531" dur="indefinite" nodeType="mainSeq">
                <p:childTnLst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6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3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5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7" dur="5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1  Sketch 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948360" y="76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0692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880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31280" y="2421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1477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Y-intercept when 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5280" y="2341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X-intercept (roots) when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5280" y="3997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xis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297480" y="1844640"/>
            <a:ext cx="1946520" cy="1368360"/>
          </a:xfrm>
          <a:custGeom>
            <a:avLst/>
            <a:gdLst/>
            <a:ahLst/>
            <a:rect l="l" t="t" r="r" b="b"/>
            <a:pathLst>
              <a:path w="1452" h="499">
                <a:moveTo>
                  <a:pt x="0" y="0"/>
                </a:moveTo>
                <a:cubicBezTo>
                  <a:pt x="242" y="249"/>
                  <a:pt x="484" y="499"/>
                  <a:pt x="726" y="499"/>
                </a:cubicBezTo>
                <a:cubicBezTo>
                  <a:pt x="968" y="499"/>
                  <a:pt x="1210" y="249"/>
                  <a:pt x="14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5280" y="5294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  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95280" y="907560"/>
            <a:ext cx="4248000" cy="503640"/>
            <a:chOff x="395280" y="907560"/>
            <a:chExt cx="4248000" cy="503640"/>
          </a:xfrm>
        </p:grpSpPr>
        <p:sp>
          <p:nvSpPr>
            <p:cNvPr id="676" name=""/>
            <p:cNvSpPr/>
            <p:nvPr/>
          </p:nvSpPr>
          <p:spPr>
            <a:xfrm>
              <a:off x="395280" y="907920"/>
              <a:ext cx="42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 Shape +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-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84360" y="979200"/>
              <a:ext cx="432000" cy="43200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852720" y="907200"/>
              <a:ext cx="43200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826920" y="1916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0 – 0 –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0,–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2840040"/>
            <a:ext cx="433440" cy="337320"/>
            <a:chOff x="6553080" y="2840040"/>
            <a:chExt cx="433440" cy="337320"/>
          </a:xfrm>
        </p:grpSpPr>
        <p:sp>
          <p:nvSpPr>
            <p:cNvPr id="682" name=""/>
            <p:cNvSpPr/>
            <p:nvPr/>
          </p:nvSpPr>
          <p:spPr>
            <a:xfrm>
              <a:off x="6915240" y="29844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3080" y="2840040"/>
              <a:ext cx="43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6920" y="2708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2x – 8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31035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x – 4)(x + 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5640" y="3463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 and 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431040" y="2470320"/>
            <a:ext cx="1774800" cy="408600"/>
            <a:chOff x="6431040" y="2470320"/>
            <a:chExt cx="1774800" cy="408600"/>
          </a:xfrm>
        </p:grpSpPr>
        <p:grpSp>
          <p:nvGrpSpPr>
            <p:cNvPr id="688" name=""/>
            <p:cNvGrpSpPr/>
            <p:nvPr/>
          </p:nvGrpSpPr>
          <p:grpSpPr>
            <a:xfrm>
              <a:off x="6588000" y="2470320"/>
              <a:ext cx="1368360" cy="71280"/>
              <a:chOff x="6588000" y="2470320"/>
              <a:chExt cx="1368360" cy="71280"/>
            </a:xfrm>
          </p:grpSpPr>
          <p:sp>
            <p:nvSpPr>
              <p:cNvPr id="689" name=""/>
              <p:cNvSpPr/>
              <p:nvPr/>
            </p:nvSpPr>
            <p:spPr>
              <a:xfrm>
                <a:off x="6588000" y="24703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84720" y="247032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6431040" y="25416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3840" y="254160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754200" y="4398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dpoint of x= -2 and 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5640" y="4830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-2+4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x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61200" y="83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996240" y="251604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5640" y="56228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x = 1    y = (1)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2(1) –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338560" y="594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  1  –  2     – 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03640" y="59119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,– 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804000" y="3176640"/>
            <a:ext cx="936720" cy="410400"/>
            <a:chOff x="6804000" y="3176640"/>
            <a:chExt cx="936720" cy="410400"/>
          </a:xfrm>
        </p:grpSpPr>
        <p:sp>
          <p:nvSpPr>
            <p:cNvPr id="701" name=""/>
            <p:cNvSpPr/>
            <p:nvPr/>
          </p:nvSpPr>
          <p:spPr>
            <a:xfrm>
              <a:off x="7223040" y="317664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04000" y="32497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,-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8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5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3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the period, max and min of each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57120" y="1413000"/>
                <a:ext cx="2630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63840" y="1420920"/>
                <a:ext cx="266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316560" y="1413000"/>
                <a:ext cx="266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4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0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03228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a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c –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600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303228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a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c –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2360" y="21337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26002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303228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–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4221000"/>
                <a:ext cx="2558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4156200"/>
                <a:ext cx="266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372360" y="4149720"/>
                <a:ext cx="2593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95280" y="479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4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9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26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69592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3 + 1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1 – 3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479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3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2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526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569592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5 – 2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-2 – 5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10160" y="47721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3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6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10160" y="5238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0160" y="567072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–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2  Sketch y = 12 + 4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948360" y="76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50692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5880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531280" y="2421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1477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Y-intercept when 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" y="2341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X-intercept (roots) when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5280" y="3997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xis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297480" y="1341000"/>
            <a:ext cx="2306880" cy="1944720"/>
          </a:xfrm>
          <a:custGeom>
            <a:avLst/>
            <a:gdLst/>
            <a:ahLst/>
            <a:rect l="l" t="t" r="r" b="b"/>
            <a:pathLst>
              <a:path w="1452" h="499">
                <a:moveTo>
                  <a:pt x="0" y="0"/>
                </a:moveTo>
                <a:cubicBezTo>
                  <a:pt x="242" y="249"/>
                  <a:pt x="484" y="499"/>
                  <a:pt x="726" y="499"/>
                </a:cubicBezTo>
                <a:cubicBezTo>
                  <a:pt x="968" y="499"/>
                  <a:pt x="1210" y="249"/>
                  <a:pt x="14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95280" y="5294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  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395280" y="907560"/>
            <a:ext cx="4248000" cy="503640"/>
            <a:chOff x="395280" y="907560"/>
            <a:chExt cx="4248000" cy="503640"/>
          </a:xfrm>
        </p:grpSpPr>
        <p:sp>
          <p:nvSpPr>
            <p:cNvPr id="714" name=""/>
            <p:cNvSpPr/>
            <p:nvPr/>
          </p:nvSpPr>
          <p:spPr>
            <a:xfrm>
              <a:off x="395280" y="907920"/>
              <a:ext cx="42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 Shape +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-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84360" y="979200"/>
              <a:ext cx="432000" cy="43200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852720" y="907200"/>
              <a:ext cx="43200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826920" y="1916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12 + 0 –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1636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0,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6553080" y="1628640"/>
            <a:ext cx="433440" cy="337320"/>
            <a:chOff x="6553080" y="1628640"/>
            <a:chExt cx="433440" cy="337320"/>
          </a:xfrm>
        </p:grpSpPr>
        <p:sp>
          <p:nvSpPr>
            <p:cNvPr id="720" name=""/>
            <p:cNvSpPr/>
            <p:nvPr/>
          </p:nvSpPr>
          <p:spPr>
            <a:xfrm>
              <a:off x="6915240" y="1773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553080" y="1628640"/>
              <a:ext cx="43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826920" y="2708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2 + 4x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x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55640" y="31035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6 – x)(2 + x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3463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6 and 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431040" y="2470320"/>
            <a:ext cx="2151000" cy="408600"/>
            <a:chOff x="6431040" y="2470320"/>
            <a:chExt cx="2151000" cy="408600"/>
          </a:xfrm>
        </p:grpSpPr>
        <p:sp>
          <p:nvSpPr>
            <p:cNvPr id="726" name=""/>
            <p:cNvSpPr/>
            <p:nvPr/>
          </p:nvSpPr>
          <p:spPr>
            <a:xfrm>
              <a:off x="6588000" y="24703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5440" y="24703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1040" y="25416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50400" y="25416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754200" y="4398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dpoint of x= -2 and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55640" y="4830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-2+6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451640" y="83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139160" y="251604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55640" y="56228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x = 2    y = 12 + 4(2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2)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38560" y="594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12  + 8     – 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03640" y="59119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2,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068960" y="981000"/>
            <a:ext cx="936720" cy="382320"/>
            <a:chOff x="7068960" y="981000"/>
            <a:chExt cx="936720" cy="382320"/>
          </a:xfrm>
        </p:grpSpPr>
        <p:sp>
          <p:nvSpPr>
            <p:cNvPr id="738" name=""/>
            <p:cNvSpPr/>
            <p:nvPr/>
          </p:nvSpPr>
          <p:spPr>
            <a:xfrm>
              <a:off x="7416720" y="1290600"/>
              <a:ext cx="712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8960" y="981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2,1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7" dur="indefinite" restart="never" nodeType="tmRoot">
          <p:childTnLst>
            <p:seq>
              <p:cTn id="2808" dur="indefinite" nodeType="mainSeq">
                <p:childTnLst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1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8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8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8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8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quation of each 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200" y="1066680"/>
            <a:ext cx="5545080" cy="2217600"/>
            <a:chOff x="106200" y="1066680"/>
            <a:chExt cx="5545080" cy="2217600"/>
          </a:xfrm>
        </p:grpSpPr>
        <p:sp>
          <p:nvSpPr>
            <p:cNvPr id="70" name=""/>
            <p:cNvSpPr/>
            <p:nvPr/>
          </p:nvSpPr>
          <p:spPr>
            <a:xfrm>
              <a:off x="127080" y="1457280"/>
              <a:ext cx="5425920" cy="1567080"/>
            </a:xfrm>
            <a:custGeom>
              <a:avLst/>
              <a:gdLst/>
              <a:ahLst/>
              <a:rect l="l" t="t" r="r" b="b"/>
              <a:pathLst>
                <a:path w="385" h="102">
                  <a:moveTo>
                    <a:pt x="0" y="0"/>
                  </a:moveTo>
                  <a:cubicBezTo>
                    <a:pt x="21" y="51"/>
                    <a:pt x="43" y="102"/>
                    <a:pt x="65" y="102"/>
                  </a:cubicBezTo>
                  <a:cubicBezTo>
                    <a:pt x="87" y="102"/>
                    <a:pt x="109" y="0"/>
                    <a:pt x="130" y="0"/>
                  </a:cubicBezTo>
                  <a:cubicBezTo>
                    <a:pt x="151" y="0"/>
                    <a:pt x="171" y="102"/>
                    <a:pt x="192" y="102"/>
                  </a:cubicBezTo>
                  <a:cubicBezTo>
                    <a:pt x="213" y="102"/>
                    <a:pt x="236" y="1"/>
                    <a:pt x="257" y="1"/>
                  </a:cubicBezTo>
                  <a:cubicBezTo>
                    <a:pt x="278" y="1"/>
                    <a:pt x="300" y="102"/>
                    <a:pt x="321" y="102"/>
                  </a:cubicBezTo>
                  <a:cubicBezTo>
                    <a:pt x="342" y="102"/>
                    <a:pt x="363" y="51"/>
                    <a:pt x="385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200" y="1380960"/>
              <a:ext cx="1838520" cy="184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944720" y="11952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49760" y="1380960"/>
              <a:ext cx="1901520" cy="179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42920" y="2239920"/>
              <a:ext cx="35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63920" y="2276640"/>
              <a:ext cx="46044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5720" y="1066680"/>
              <a:ext cx="4590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9240" y="2219400"/>
              <a:ext cx="788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06760" y="2205000"/>
              <a:ext cx="920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50960" y="2852640"/>
              <a:ext cx="7254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00280" y="1284120"/>
              <a:ext cx="6760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24000" y="3645000"/>
            <a:ext cx="6914520" cy="2448000"/>
            <a:chOff x="324000" y="3645000"/>
            <a:chExt cx="6914520" cy="2448000"/>
          </a:xfrm>
        </p:grpSpPr>
        <p:sp>
          <p:nvSpPr>
            <p:cNvPr id="82" name=""/>
            <p:cNvSpPr/>
            <p:nvPr/>
          </p:nvSpPr>
          <p:spPr>
            <a:xfrm>
              <a:off x="388800" y="4076640"/>
              <a:ext cx="6667200" cy="1916280"/>
            </a:xfrm>
            <a:custGeom>
              <a:avLst/>
              <a:gdLst/>
              <a:ahLst/>
              <a:rect l="l" t="t" r="r" b="b"/>
              <a:pathLst>
                <a:path w="575" h="136">
                  <a:moveTo>
                    <a:pt x="0" y="0"/>
                  </a:moveTo>
                  <a:cubicBezTo>
                    <a:pt x="21" y="68"/>
                    <a:pt x="42" y="136"/>
                    <a:pt x="63" y="136"/>
                  </a:cubicBezTo>
                  <a:cubicBezTo>
                    <a:pt x="84" y="136"/>
                    <a:pt x="106" y="0"/>
                    <a:pt x="127" y="0"/>
                  </a:cubicBezTo>
                  <a:cubicBezTo>
                    <a:pt x="148" y="0"/>
                    <a:pt x="171" y="136"/>
                    <a:pt x="192" y="136"/>
                  </a:cubicBezTo>
                  <a:cubicBezTo>
                    <a:pt x="213" y="136"/>
                    <a:pt x="235" y="0"/>
                    <a:pt x="256" y="0"/>
                  </a:cubicBezTo>
                  <a:cubicBezTo>
                    <a:pt x="277" y="0"/>
                    <a:pt x="299" y="136"/>
                    <a:pt x="320" y="136"/>
                  </a:cubicBezTo>
                  <a:cubicBezTo>
                    <a:pt x="341" y="136"/>
                    <a:pt x="364" y="0"/>
                    <a:pt x="385" y="0"/>
                  </a:cubicBezTo>
                  <a:cubicBezTo>
                    <a:pt x="406" y="0"/>
                    <a:pt x="427" y="136"/>
                    <a:pt x="448" y="136"/>
                  </a:cubicBezTo>
                  <a:cubicBezTo>
                    <a:pt x="469" y="136"/>
                    <a:pt x="491" y="1"/>
                    <a:pt x="512" y="1"/>
                  </a:cubicBezTo>
                  <a:cubicBezTo>
                    <a:pt x="533" y="1"/>
                    <a:pt x="554" y="68"/>
                    <a:pt x="575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005360"/>
              <a:ext cx="1142640" cy="20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477800" y="386064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56080" y="4005360"/>
              <a:ext cx="2782440" cy="20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6880" y="5057640"/>
              <a:ext cx="41396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8440" y="5014800"/>
              <a:ext cx="4600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92240" y="3645000"/>
              <a:ext cx="458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1760" y="5100480"/>
              <a:ext cx="53604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73640" y="5084640"/>
              <a:ext cx="99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9240" y="3933720"/>
              <a:ext cx="8661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2240" y="5748480"/>
              <a:ext cx="458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600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119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55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16520" y="2492280"/>
                <a:ext cx="1722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796000" y="19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45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365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4726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419880" y="5661000"/>
                <a:ext cx="166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372360" y="5121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quation of each 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1069920"/>
            <a:ext cx="5425920" cy="1567080"/>
          </a:xfrm>
          <a:custGeom>
            <a:avLst/>
            <a:gdLst/>
            <a:ahLst/>
            <a:rect l="l" t="t" r="r" b="b"/>
            <a:pathLst>
              <a:path w="385" h="102">
                <a:moveTo>
                  <a:pt x="0" y="0"/>
                </a:moveTo>
                <a:cubicBezTo>
                  <a:pt x="21" y="51"/>
                  <a:pt x="43" y="102"/>
                  <a:pt x="65" y="102"/>
                </a:cubicBezTo>
                <a:cubicBezTo>
                  <a:pt x="87" y="102"/>
                  <a:pt x="109" y="0"/>
                  <a:pt x="130" y="0"/>
                </a:cubicBezTo>
                <a:cubicBezTo>
                  <a:pt x="151" y="0"/>
                  <a:pt x="171" y="102"/>
                  <a:pt x="192" y="102"/>
                </a:cubicBezTo>
                <a:cubicBezTo>
                  <a:pt x="213" y="102"/>
                  <a:pt x="236" y="1"/>
                  <a:pt x="257" y="1"/>
                </a:cubicBezTo>
                <a:cubicBezTo>
                  <a:pt x="278" y="1"/>
                  <a:pt x="300" y="102"/>
                  <a:pt x="321" y="102"/>
                </a:cubicBezTo>
                <a:cubicBezTo>
                  <a:pt x="342" y="102"/>
                  <a:pt x="363" y="51"/>
                  <a:pt x="385" y="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200" y="1052640"/>
            <a:ext cx="1838520" cy="18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08000" y="836640"/>
            <a:ext cx="36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4840" y="907920"/>
            <a:ext cx="1901880" cy="17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263700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652840"/>
            <a:ext cx="460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20640"/>
            <a:ext cx="459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2637000"/>
            <a:ext cx="789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6760" y="2637000"/>
            <a:ext cx="920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5880" y="2565360"/>
            <a:ext cx="725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907920"/>
            <a:ext cx="676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800" y="4437000"/>
            <a:ext cx="6667560" cy="1916280"/>
          </a:xfrm>
          <a:custGeom>
            <a:avLst/>
            <a:gdLst/>
            <a:ahLst/>
            <a:rect l="l" t="t" r="r" b="b"/>
            <a:pathLst>
              <a:path w="575" h="136">
                <a:moveTo>
                  <a:pt x="0" y="0"/>
                </a:moveTo>
                <a:cubicBezTo>
                  <a:pt x="21" y="68"/>
                  <a:pt x="42" y="136"/>
                  <a:pt x="63" y="136"/>
                </a:cubicBezTo>
                <a:cubicBezTo>
                  <a:pt x="84" y="136"/>
                  <a:pt x="106" y="0"/>
                  <a:pt x="127" y="0"/>
                </a:cubicBezTo>
                <a:cubicBezTo>
                  <a:pt x="148" y="0"/>
                  <a:pt x="171" y="136"/>
                  <a:pt x="192" y="136"/>
                </a:cubicBezTo>
                <a:cubicBezTo>
                  <a:pt x="213" y="136"/>
                  <a:pt x="235" y="0"/>
                  <a:pt x="256" y="0"/>
                </a:cubicBezTo>
                <a:cubicBezTo>
                  <a:pt x="277" y="0"/>
                  <a:pt x="299" y="136"/>
                  <a:pt x="320" y="136"/>
                </a:cubicBezTo>
                <a:cubicBezTo>
                  <a:pt x="341" y="136"/>
                  <a:pt x="364" y="0"/>
                  <a:pt x="385" y="0"/>
                </a:cubicBezTo>
                <a:cubicBezTo>
                  <a:pt x="406" y="0"/>
                  <a:pt x="427" y="136"/>
                  <a:pt x="448" y="136"/>
                </a:cubicBezTo>
                <a:cubicBezTo>
                  <a:pt x="469" y="136"/>
                  <a:pt x="491" y="1"/>
                  <a:pt x="512" y="1"/>
                </a:cubicBezTo>
                <a:cubicBezTo>
                  <a:pt x="533" y="1"/>
                  <a:pt x="554" y="68"/>
                  <a:pt x="575" y="1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365720"/>
            <a:ext cx="1143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77800" y="3860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56080" y="4365720"/>
            <a:ext cx="27828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6880" y="5057640"/>
            <a:ext cx="414000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78440" y="5014800"/>
            <a:ext cx="460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2240" y="3645000"/>
            <a:ext cx="458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1760" y="5100480"/>
            <a:ext cx="75060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73640" y="5084640"/>
            <a:ext cx="993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9240" y="4379760"/>
            <a:ext cx="8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92240" y="6165720"/>
            <a:ext cx="458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308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2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3080" y="119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3080" y="155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459400" y="2492280"/>
                <a:ext cx="2152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3080" y="19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4365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726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191280" y="5661000"/>
                <a:ext cx="2125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372360" y="5121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844640"/>
            <a:ext cx="396072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5445000"/>
            <a:ext cx="396072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quation of each 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200" y="1052640"/>
            <a:ext cx="1838520" cy="18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308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3080" y="119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3080" y="155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862600" y="2492280"/>
                <a:ext cx="1344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653080" y="19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9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4365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726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284880" y="5661000"/>
                <a:ext cx="1938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372360" y="5121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092240" y="1125360"/>
            <a:ext cx="3767040" cy="2448000"/>
            <a:chOff x="1092240" y="1125360"/>
            <a:chExt cx="3767040" cy="2448000"/>
          </a:xfrm>
        </p:grpSpPr>
        <p:sp>
          <p:nvSpPr>
            <p:cNvPr id="151" name=""/>
            <p:cNvSpPr/>
            <p:nvPr/>
          </p:nvSpPr>
          <p:spPr>
            <a:xfrm flipV="1">
              <a:off x="1563840" y="1452240"/>
              <a:ext cx="1440" cy="17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92240" y="2430360"/>
              <a:ext cx="3295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2240" y="1452600"/>
              <a:ext cx="941400" cy="1793880"/>
            </a:xfrm>
            <a:custGeom>
              <a:avLst/>
              <a:gdLst/>
              <a:ahLst/>
              <a:rect l="l" t="t" r="r" b="b"/>
              <a:pathLst>
                <a:path w="1086" h="1991">
                  <a:moveTo>
                    <a:pt x="0" y="1991"/>
                  </a:moveTo>
                  <a:cubicBezTo>
                    <a:pt x="15" y="1719"/>
                    <a:pt x="30" y="1448"/>
                    <a:pt x="181" y="1267"/>
                  </a:cubicBezTo>
                  <a:cubicBezTo>
                    <a:pt x="332" y="1086"/>
                    <a:pt x="754" y="1116"/>
                    <a:pt x="905" y="905"/>
                  </a:cubicBezTo>
                  <a:cubicBezTo>
                    <a:pt x="1056" y="694"/>
                    <a:pt x="1071" y="347"/>
                    <a:pt x="10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35080" y="1452600"/>
              <a:ext cx="941400" cy="1793880"/>
            </a:xfrm>
            <a:custGeom>
              <a:avLst/>
              <a:gdLst/>
              <a:ahLst/>
              <a:rect l="l" t="t" r="r" b="b"/>
              <a:pathLst>
                <a:path w="1086" h="1991">
                  <a:moveTo>
                    <a:pt x="0" y="1991"/>
                  </a:moveTo>
                  <a:cubicBezTo>
                    <a:pt x="15" y="1719"/>
                    <a:pt x="30" y="1448"/>
                    <a:pt x="181" y="1267"/>
                  </a:cubicBezTo>
                  <a:cubicBezTo>
                    <a:pt x="332" y="1086"/>
                    <a:pt x="754" y="1116"/>
                    <a:pt x="905" y="905"/>
                  </a:cubicBezTo>
                  <a:cubicBezTo>
                    <a:pt x="1056" y="694"/>
                    <a:pt x="1071" y="347"/>
                    <a:pt x="10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76480" y="1452600"/>
              <a:ext cx="941400" cy="1793880"/>
            </a:xfrm>
            <a:custGeom>
              <a:avLst/>
              <a:gdLst/>
              <a:ahLst/>
              <a:rect l="l" t="t" r="r" b="b"/>
              <a:pathLst>
                <a:path w="1086" h="1991">
                  <a:moveTo>
                    <a:pt x="0" y="1991"/>
                  </a:moveTo>
                  <a:cubicBezTo>
                    <a:pt x="15" y="1719"/>
                    <a:pt x="30" y="1448"/>
                    <a:pt x="181" y="1267"/>
                  </a:cubicBezTo>
                  <a:cubicBezTo>
                    <a:pt x="332" y="1086"/>
                    <a:pt x="754" y="1116"/>
                    <a:pt x="905" y="905"/>
                  </a:cubicBezTo>
                  <a:cubicBezTo>
                    <a:pt x="1056" y="694"/>
                    <a:pt x="1071" y="347"/>
                    <a:pt x="10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2160" y="2430360"/>
              <a:ext cx="6271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49200" y="1125360"/>
              <a:ext cx="6271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2760" y="2408400"/>
              <a:ext cx="626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5240" y="2430360"/>
              <a:ext cx="626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46640" y="2430360"/>
              <a:ext cx="6285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033640" y="1289160"/>
              <a:ext cx="1440" cy="2284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6480" y="1289160"/>
              <a:ext cx="0" cy="2284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7880" y="1289160"/>
              <a:ext cx="0" cy="2284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1371600" y="4115880"/>
            <a:ext cx="1440" cy="17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5094360"/>
            <a:ext cx="329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4508640"/>
            <a:ext cx="941400" cy="1793880"/>
          </a:xfrm>
          <a:custGeom>
            <a:avLst/>
            <a:gdLst/>
            <a:ahLst/>
            <a:rect l="l" t="t" r="r" b="b"/>
            <a:pathLst>
              <a:path w="1086" h="1991">
                <a:moveTo>
                  <a:pt x="0" y="1991"/>
                </a:moveTo>
                <a:cubicBezTo>
                  <a:pt x="15" y="1719"/>
                  <a:pt x="30" y="1448"/>
                  <a:pt x="181" y="1267"/>
                </a:cubicBezTo>
                <a:cubicBezTo>
                  <a:pt x="332" y="1086"/>
                  <a:pt x="754" y="1116"/>
                  <a:pt x="905" y="905"/>
                </a:cubicBezTo>
                <a:cubicBezTo>
                  <a:pt x="1056" y="694"/>
                  <a:pt x="1071" y="347"/>
                  <a:pt x="10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3200" y="4508640"/>
            <a:ext cx="941400" cy="1793880"/>
          </a:xfrm>
          <a:custGeom>
            <a:avLst/>
            <a:gdLst/>
            <a:ahLst/>
            <a:rect l="l" t="t" r="r" b="b"/>
            <a:pathLst>
              <a:path w="1086" h="1991">
                <a:moveTo>
                  <a:pt x="0" y="1991"/>
                </a:moveTo>
                <a:cubicBezTo>
                  <a:pt x="15" y="1719"/>
                  <a:pt x="30" y="1448"/>
                  <a:pt x="181" y="1267"/>
                </a:cubicBezTo>
                <a:cubicBezTo>
                  <a:pt x="332" y="1086"/>
                  <a:pt x="754" y="1116"/>
                  <a:pt x="905" y="905"/>
                </a:cubicBezTo>
                <a:cubicBezTo>
                  <a:pt x="1056" y="694"/>
                  <a:pt x="1071" y="347"/>
                  <a:pt x="10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84600" y="4514760"/>
            <a:ext cx="941400" cy="1793880"/>
          </a:xfrm>
          <a:custGeom>
            <a:avLst/>
            <a:gdLst/>
            <a:ahLst/>
            <a:rect l="l" t="t" r="r" b="b"/>
            <a:pathLst>
              <a:path w="1086" h="1991">
                <a:moveTo>
                  <a:pt x="0" y="1991"/>
                </a:moveTo>
                <a:cubicBezTo>
                  <a:pt x="15" y="1719"/>
                  <a:pt x="30" y="1448"/>
                  <a:pt x="181" y="1267"/>
                </a:cubicBezTo>
                <a:cubicBezTo>
                  <a:pt x="332" y="1086"/>
                  <a:pt x="754" y="1116"/>
                  <a:pt x="905" y="905"/>
                </a:cubicBezTo>
                <a:cubicBezTo>
                  <a:pt x="1056" y="694"/>
                  <a:pt x="1071" y="347"/>
                  <a:pt x="10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05240" y="5094360"/>
            <a:ext cx="627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57320" y="3789360"/>
            <a:ext cx="627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84520" y="5084640"/>
            <a:ext cx="6267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094360"/>
            <a:ext cx="627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6160" y="5094360"/>
            <a:ext cx="628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841040" y="4097160"/>
            <a:ext cx="1800" cy="228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84600" y="4097160"/>
            <a:ext cx="0" cy="228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4097160"/>
            <a:ext cx="0" cy="228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16640"/>
            <a:ext cx="431928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5342040"/>
            <a:ext cx="626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etch the following graphs for 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3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9680" y="981000"/>
                <a:ext cx="2239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794200" y="907920"/>
                <a:ext cx="2381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95280" y="155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8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0239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15494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1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8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016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2448000"/>
            <a:ext cx="32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5 – 1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-1 – 5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31956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3500280"/>
            <a:ext cx="4321080" cy="2376720"/>
            <a:chOff x="250920" y="3500280"/>
            <a:chExt cx="4321080" cy="2376720"/>
          </a:xfrm>
        </p:grpSpPr>
        <p:sp>
          <p:nvSpPr>
            <p:cNvPr id="189" name=""/>
            <p:cNvSpPr/>
            <p:nvPr/>
          </p:nvSpPr>
          <p:spPr>
            <a:xfrm flipV="1">
              <a:off x="755640" y="3645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0920" y="48690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4360" y="48625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360" y="3500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116000" y="4797360"/>
            <a:ext cx="1079640" cy="216000"/>
            <a:chOff x="1116000" y="4797360"/>
            <a:chExt cx="1079640" cy="216000"/>
          </a:xfrm>
        </p:grpSpPr>
        <p:sp>
          <p:nvSpPr>
            <p:cNvPr id="194" name=""/>
            <p:cNvSpPr/>
            <p:nvPr/>
          </p:nvSpPr>
          <p:spPr>
            <a:xfrm>
              <a:off x="111600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636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3528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564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556000" y="4797360"/>
            <a:ext cx="1079280" cy="216000"/>
            <a:chOff x="2556000" y="4797360"/>
            <a:chExt cx="1079280" cy="216000"/>
          </a:xfrm>
        </p:grpSpPr>
        <p:sp>
          <p:nvSpPr>
            <p:cNvPr id="199" name=""/>
            <p:cNvSpPr/>
            <p:nvPr/>
          </p:nvSpPr>
          <p:spPr>
            <a:xfrm>
              <a:off x="255600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1600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7492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528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8360" y="3782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494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494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9560" y="48301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74760" y="48301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38200" y="48394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069920" y="3933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97120" y="57762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602160" y="4842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82880" y="4842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30440" y="3933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55840" y="573264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83280" y="5157720"/>
            <a:ext cx="1513080" cy="144360"/>
            <a:chOff x="6083280" y="5157720"/>
            <a:chExt cx="1513080" cy="144360"/>
          </a:xfrm>
        </p:grpSpPr>
        <p:sp>
          <p:nvSpPr>
            <p:cNvPr id="217" name=""/>
            <p:cNvSpPr/>
            <p:nvPr/>
          </p:nvSpPr>
          <p:spPr>
            <a:xfrm>
              <a:off x="608328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8836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9128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9636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148360" y="5373720"/>
            <a:ext cx="280836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430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08720" y="4580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562880" y="4580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550200" y="6093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0440" y="53348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054920" y="53380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4920" y="3944880"/>
            <a:ext cx="3811680" cy="2147760"/>
            <a:chOff x="34920" y="3944880"/>
            <a:chExt cx="3811680" cy="2147760"/>
          </a:xfrm>
        </p:grpSpPr>
        <p:sp>
          <p:nvSpPr>
            <p:cNvPr id="231" name=""/>
            <p:cNvSpPr/>
            <p:nvPr/>
          </p:nvSpPr>
          <p:spPr>
            <a:xfrm>
              <a:off x="319320" y="3944880"/>
              <a:ext cx="3527280" cy="2063520"/>
            </a:xfrm>
            <a:custGeom>
              <a:avLst/>
              <a:gdLst/>
              <a:ahLst/>
              <a:rect l="l" t="t" r="r" b="b"/>
              <a:pathLst>
                <a:path w="2222" h="1300">
                  <a:moveTo>
                    <a:pt x="0" y="959"/>
                  </a:moveTo>
                  <a:cubicBezTo>
                    <a:pt x="4" y="1129"/>
                    <a:pt x="8" y="1300"/>
                    <a:pt x="91" y="1141"/>
                  </a:cubicBezTo>
                  <a:cubicBezTo>
                    <a:pt x="174" y="982"/>
                    <a:pt x="356" y="0"/>
                    <a:pt x="499" y="7"/>
                  </a:cubicBezTo>
                  <a:cubicBezTo>
                    <a:pt x="642" y="14"/>
                    <a:pt x="801" y="1186"/>
                    <a:pt x="952" y="1186"/>
                  </a:cubicBezTo>
                  <a:cubicBezTo>
                    <a:pt x="1103" y="1186"/>
                    <a:pt x="1255" y="14"/>
                    <a:pt x="1406" y="7"/>
                  </a:cubicBezTo>
                  <a:cubicBezTo>
                    <a:pt x="1557" y="0"/>
                    <a:pt x="1724" y="1141"/>
                    <a:pt x="1860" y="1141"/>
                  </a:cubicBezTo>
                  <a:cubicBezTo>
                    <a:pt x="1996" y="1141"/>
                    <a:pt x="2109" y="574"/>
                    <a:pt x="2222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20" y="5445000"/>
              <a:ext cx="3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32360" y="4437000"/>
            <a:ext cx="3311280" cy="1715760"/>
            <a:chOff x="4932360" y="4437000"/>
            <a:chExt cx="3311280" cy="1715760"/>
          </a:xfrm>
        </p:grpSpPr>
        <p:sp>
          <p:nvSpPr>
            <p:cNvPr id="234" name=""/>
            <p:cNvSpPr/>
            <p:nvPr/>
          </p:nvSpPr>
          <p:spPr>
            <a:xfrm>
              <a:off x="4932360" y="4509720"/>
              <a:ext cx="3139200" cy="1643040"/>
            </a:xfrm>
            <a:custGeom>
              <a:avLst/>
              <a:gdLst/>
              <a:ahLst/>
              <a:rect l="l" t="t" r="r" b="b"/>
              <a:pathLst>
                <a:path w="2064" h="1035">
                  <a:moveTo>
                    <a:pt x="23" y="582"/>
                  </a:moveTo>
                  <a:cubicBezTo>
                    <a:pt x="11" y="600"/>
                    <a:pt x="0" y="619"/>
                    <a:pt x="68" y="536"/>
                  </a:cubicBezTo>
                  <a:cubicBezTo>
                    <a:pt x="136" y="453"/>
                    <a:pt x="265" y="0"/>
                    <a:pt x="431" y="83"/>
                  </a:cubicBezTo>
                  <a:cubicBezTo>
                    <a:pt x="597" y="166"/>
                    <a:pt x="854" y="1035"/>
                    <a:pt x="1066" y="1035"/>
                  </a:cubicBezTo>
                  <a:cubicBezTo>
                    <a:pt x="1278" y="1035"/>
                    <a:pt x="1535" y="158"/>
                    <a:pt x="1701" y="83"/>
                  </a:cubicBezTo>
                  <a:cubicBezTo>
                    <a:pt x="1867" y="8"/>
                    <a:pt x="1965" y="295"/>
                    <a:pt x="2064" y="5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32360" y="4725720"/>
              <a:ext cx="41328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30000" y="4437000"/>
              <a:ext cx="41364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380360" y="5373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48360" y="3860640"/>
            <a:ext cx="3455640" cy="2376720"/>
            <a:chOff x="5148360" y="3860640"/>
            <a:chExt cx="3455640" cy="2376720"/>
          </a:xfrm>
        </p:grpSpPr>
        <p:sp>
          <p:nvSpPr>
            <p:cNvPr id="239" name=""/>
            <p:cNvSpPr/>
            <p:nvPr/>
          </p:nvSpPr>
          <p:spPr>
            <a:xfrm flipV="1">
              <a:off x="5551920" y="4005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8360" y="5229360"/>
              <a:ext cx="305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86320" y="522288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2240" y="386064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04000" y="558792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457992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4508640"/>
            <a:ext cx="115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4005360"/>
            <a:ext cx="115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492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following Trig equations for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8360" y="1197000"/>
                <a:ext cx="1800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1197000"/>
                <a:ext cx="180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17480" y="1803240"/>
                <a:ext cx="126216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22280" y="2700360"/>
                <a:ext cx="1773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627280" y="2637000"/>
            <a:ext cx="1079640" cy="1008000"/>
            <a:chOff x="2627280" y="2637000"/>
            <a:chExt cx="1079640" cy="1008000"/>
          </a:xfrm>
        </p:grpSpPr>
        <p:sp>
          <p:nvSpPr>
            <p:cNvPr id="255" name=""/>
            <p:cNvSpPr/>
            <p:nvPr/>
          </p:nvSpPr>
          <p:spPr>
            <a:xfrm>
              <a:off x="313056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7280" y="3141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5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7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5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8480" y="4078440"/>
                <a:ext cx="1020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185920" y="408132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85808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9784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05240" y="1844640"/>
                <a:ext cx="1449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029200" y="2741760"/>
                <a:ext cx="172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7209000" y="2637000"/>
            <a:ext cx="1079280" cy="1008000"/>
            <a:chOff x="7209000" y="2637000"/>
            <a:chExt cx="1079280" cy="1008000"/>
          </a:xfrm>
        </p:grpSpPr>
        <p:sp>
          <p:nvSpPr>
            <p:cNvPr id="268" name=""/>
            <p:cNvSpPr/>
            <p:nvPr/>
          </p:nvSpPr>
          <p:spPr>
            <a:xfrm>
              <a:off x="771192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09000" y="31417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5664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900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09000" y="32068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6640" y="32068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148360" y="4079880"/>
                <a:ext cx="1234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780240" y="41227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791400" y="516096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588000" y="616428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616572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508464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465300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450864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4005360"/>
            <a:ext cx="12236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7856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2656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2115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492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following Trig equations for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60360" y="1143000"/>
                <a:ext cx="2016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10120" y="981000"/>
                <a:ext cx="1933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11280" y="1776240"/>
                <a:ext cx="1476360" cy="8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28680" y="2673360"/>
                <a:ext cx="1962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2627280" y="2637000"/>
            <a:ext cx="1079640" cy="1008000"/>
            <a:chOff x="2627280" y="2637000"/>
            <a:chExt cx="1079640" cy="1008000"/>
          </a:xfrm>
        </p:grpSpPr>
        <p:sp>
          <p:nvSpPr>
            <p:cNvPr id="293" name=""/>
            <p:cNvSpPr/>
            <p:nvPr/>
          </p:nvSpPr>
          <p:spPr>
            <a:xfrm>
              <a:off x="313056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27280" y="3141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75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27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27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5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98480" y="4078440"/>
                <a:ext cx="1020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198520" y="40813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7378560" y="3284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26560" y="3284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245200" y="1341360"/>
                <a:ext cx="1368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21200" y="3238560"/>
                <a:ext cx="1936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5" name=""/>
          <p:cNvGrpSpPr/>
          <p:nvPr/>
        </p:nvGrpSpPr>
        <p:grpSpPr>
          <a:xfrm>
            <a:off x="7380360" y="3284640"/>
            <a:ext cx="1079280" cy="1008000"/>
            <a:chOff x="7380360" y="3284640"/>
            <a:chExt cx="1079280" cy="1008000"/>
          </a:xfrm>
        </p:grpSpPr>
        <p:sp>
          <p:nvSpPr>
            <p:cNvPr id="306" name=""/>
            <p:cNvSpPr/>
            <p:nvPr/>
          </p:nvSpPr>
          <p:spPr>
            <a:xfrm>
              <a:off x="7883280" y="3284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0360" y="37893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8000" y="3284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80360" y="3284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0360" y="3854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28000" y="3854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846680" y="4695840"/>
                <a:ext cx="1020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462720" y="465300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643280" y="57373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229360" y="2109960"/>
                <a:ext cx="2655720" cy="94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575400" y="573408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588000" y="585000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585144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477036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16360" y="433872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551664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443700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78560" y="3546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026560" y="3546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2728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following Trig equations for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80960" y="1197000"/>
                <a:ext cx="1773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089680" y="981000"/>
                <a:ext cx="177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23880" y="1803240"/>
                <a:ext cx="144936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9280" y="2698920"/>
                <a:ext cx="17208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2627280" y="2637000"/>
            <a:ext cx="1079640" cy="1008000"/>
            <a:chOff x="2627280" y="2637000"/>
            <a:chExt cx="1079640" cy="1008000"/>
          </a:xfrm>
        </p:grpSpPr>
        <p:sp>
          <p:nvSpPr>
            <p:cNvPr id="333" name=""/>
            <p:cNvSpPr/>
            <p:nvPr/>
          </p:nvSpPr>
          <p:spPr>
            <a:xfrm>
              <a:off x="313056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27280" y="3141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75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27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27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5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3520" y="4038480"/>
                <a:ext cx="1182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920960" y="4005360"/>
                <a:ext cx="1611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2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7378560" y="2970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26560" y="2970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270400" y="1542960"/>
                <a:ext cx="1316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002200" y="3205080"/>
                <a:ext cx="1774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5" name=""/>
          <p:cNvGrpSpPr/>
          <p:nvPr/>
        </p:nvGrpSpPr>
        <p:grpSpPr>
          <a:xfrm>
            <a:off x="7380360" y="2970360"/>
            <a:ext cx="1079280" cy="1008000"/>
            <a:chOff x="7380360" y="2970360"/>
            <a:chExt cx="1079280" cy="1008000"/>
          </a:xfrm>
        </p:grpSpPr>
        <p:sp>
          <p:nvSpPr>
            <p:cNvPr id="346" name=""/>
            <p:cNvSpPr/>
            <p:nvPr/>
          </p:nvSpPr>
          <p:spPr>
            <a:xfrm>
              <a:off x="7883280" y="2970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80360" y="34750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28000" y="2970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0360" y="2970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0360" y="35402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28000" y="35402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846680" y="4381560"/>
                <a:ext cx="1020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462720" y="43387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43280" y="542304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338800" y="2205000"/>
                <a:ext cx="16095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75400" y="541980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908000" y="508968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2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4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4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500"/>
                            </p:stCondLst>
                            <p:childTnLst>
                              <p:par>
                                <p:cTn id="1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2:52:07Z</dcterms:created>
  <dc:creator/>
  <dc:description/>
  <dc:language>en-US</dc:language>
  <cp:lastModifiedBy/>
  <dcterms:modified xsi:type="dcterms:W3CDTF">2008-01-17T14:48:22Z</dcterms:modified>
  <cp:revision>44</cp:revision>
  <dc:subject/>
  <dc:title>Further Trigonometry</dc:title>
</cp:coreProperties>
</file>